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E9C-62EC-4757-ACF3-0138E774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808-C21A-4C43-BB06-D2398E18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27D-7F5E-42F8-A5AA-1D437671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9D5-AE4C-44B7-A364-7C9824A3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EF3D3-D7A7-471C-BAEC-D7469BC9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7F575-195A-4B54-9DC8-5D29F339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DAC02-11F2-417E-B82B-9DAC369E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5B9BD-0B22-4623-A5E8-38F7608C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1464B-C939-4138-A403-1CAEFC13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1AAA8-3E6C-419F-89FF-79421111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126F9-3EFF-4C06-BBC4-3900223D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5B3-7975-4B5B-921F-65F2216D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E59BA-F215-49AC-AB64-F59D51DF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79105-0FFE-47FD-BBB5-6989452B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33451-7B29-44A9-BBCF-387E234A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1399C-040D-4EBD-81F8-5E0D8B04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BDFF5-0BA5-4A07-902E-2DCDFA3A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E96-3BA6-4DCC-A614-A07B120C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CC0-492E-4E4B-AAE8-00FBDB21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FA9-65DE-413B-9F3E-210DA5BE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F4F-E720-4450-808B-96BC6600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E3B-4F19-41C0-A45A-3491DC6D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CC6-0B73-4436-A9FF-E8F0DABB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B80-FE6D-4484-9830-2F005CE4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FC2A-EAB5-4B59-85D0-65F6A7CB7A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AEB9-F6E7-4774-A135-50DEB1750B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84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8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86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organic compound is found in most cells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34:57Z</dcterms:created>
  <dc:creator>WaiverDay</dc:creator>
  <dc:description/>
  <dc:language>en-US</dc:language>
  <cp:lastModifiedBy>PritchaJ</cp:lastModifiedBy>
  <dcterms:modified xsi:type="dcterms:W3CDTF">2011-06-01T13:53:05Z</dcterms:modified>
  <cp:revision>3</cp:revision>
  <dc:subject/>
  <dc:title>Which organic compound is found in most cells? </dc:title>
</cp:coreProperties>
</file>